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1.png" ContentType="image/png"/>
  <Override PartName="/ppt/media/image19.jpeg" ContentType="image/jpeg"/>
  <Override PartName="/ppt/media/image42.jpeg" ContentType="image/jpeg"/>
  <Override PartName="/ppt/media/image26.jpeg" ContentType="image/jpeg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25.wmf" ContentType="image/x-wmf"/>
  <Override PartName="/ppt/media/image8.jpeg" ContentType="image/jpeg"/>
  <Override PartName="/ppt/media/image43.jpeg" ContentType="image/jpeg"/>
  <Override PartName="/ppt/media/image5.png" ContentType="image/png"/>
  <Override PartName="/ppt/media/image30.wmf" ContentType="image/x-wmf"/>
  <Override PartName="/ppt/media/image6.jpeg" ContentType="image/jpeg"/>
  <Override PartName="/ppt/media/image32.png" ContentType="image/png"/>
  <Override PartName="/ppt/media/image34.wmf" ContentType="image/x-wmf"/>
  <Override PartName="/ppt/media/image35.wmf" ContentType="image/x-wmf"/>
  <Override PartName="/ppt/media/image3.jpeg" ContentType="image/jpeg"/>
  <Override PartName="/ppt/media/image15.png" ContentType="image/png"/>
  <Override PartName="/ppt/media/image24.jpeg" ContentType="image/jpeg"/>
  <Override PartName="/ppt/media/image37.wmf" ContentType="image/x-wmf"/>
  <Override PartName="/ppt/media/image39.wmf" ContentType="image/x-wmf"/>
  <Override PartName="/ppt/media/image41.png" ContentType="image/png"/>
  <Override PartName="/ppt/media/image40.jpeg" ContentType="image/jpeg"/>
  <Override PartName="/ppt/media/image44.jpeg" ContentType="image/jpeg"/>
  <Override PartName="/ppt/media/image36.wmf" ContentType="image/x-wmf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31.wmf" ContentType="image/x-wmf"/>
  <Override PartName="/ppt/media/image7.jpeg" ContentType="image/jpeg"/>
  <Override PartName="/ppt/media/image23.wmf" ContentType="image/x-wmf"/>
  <Override PartName="/ppt/media/image28.jpeg" ContentType="image/jpeg"/>
  <Override PartName="/ppt/media/image38.wmf" ContentType="image/x-wmf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AF2785-577F-4C8D-84ED-D9362CDC2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A325E8-20ED-45C3-9B23-D70C4A411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3C19C6-C3F7-4EF6-AF37-AB137FA56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F26BE2-7021-4E09-8BFF-C39DA8BDF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B03414-E6CC-4C93-BD4A-2217E28E5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BE2E7D-7A03-4B98-93BA-C2D28B8B5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2DE8C7-B880-4AF2-9028-3989F7501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1A05F3-601C-4A2B-B69A-211D1F7EE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DE2684-BF8A-4D95-9622-C2E8A544B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B608F5-5D6F-41EA-AEFF-3FF276178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5C8BE0-54A1-492F-A3BF-A48D35E4E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BD2A23-5F31-4DE3-A59B-6D75A0C9D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7A354A-F658-4A9D-8990-50DF34A8C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6D09BA-154E-4F16-95C9-8617451E8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34C48A-BE40-4731-8F29-AB75ED979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2F11DF-54C8-455A-B43C-7714478FF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E3D2DD-BD80-4030-B040-3A88C9060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BD0062-A8A5-4B3A-95EB-72FB32822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263102-B2A1-4137-A3D0-6F52F57DB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7E4674-2EE9-4FAD-AA12-F6C6E669D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2025A3-3CCC-421A-93EF-F0AB21704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C2B88E-F36C-46F4-96AB-18D565EAA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CBF8C2-0AF3-43D4-B332-D5B1D4DED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1357D7-D0D0-4C9D-8ABC-DD9D11986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290F90-D0BC-4098-A6AF-131749867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80969-D806-4265-9AC1-C7B4C10CEA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0E0A0-D234-4644-906F-08E602B4A4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1CBA0-E73A-40BE-956C-56AB9AA98C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35C11-137A-45AF-A1C0-5AE2DA754D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2188-F5C4-492A-9994-BDB48441F17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3314-D4D9-4C3C-A034-B0B15BFDA56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9008-FAD0-4E4A-B39A-15EE342A0BF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E497-C6EE-448E-AD2A-91A364E9B94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9C8A-23E6-4F6A-A945-942B3D4BF96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D340-CBC1-44ED-B5AF-700C9A8ABB7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8522-705A-41BB-B5E3-14FF7C9B67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C60C3-DFD1-4431-A450-CEC180BBAC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8EC9-65F5-4590-A567-9218F22D9B1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30D9-FCD5-4DE3-9A9D-B43DD9C9368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BA01-D7F2-4810-A829-B679C90DE1A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CBD5-B627-4FD6-AE8D-4596B2E8D10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2392-A2DB-42A1-B35D-0C053FD302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EFC5D-3A04-4820-AE3B-F3A2304A7C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AF9A8-15A6-47B3-971D-2CA366953E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FC236-0EBB-4482-BA50-0F0652293E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DF35B-3769-44B7-AC13-98C3F0214C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01E0F-5970-4351-8249-0BB2BD2EDA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8779F-32B8-4D43-86AA-4F59920A97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8E8E7-A41E-4E54-B346-2055D3F014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ACE84-7FB0-4442-AB53-A57E0029D8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DED65-2CCC-4359-B288-05B9F4C6FC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image" Target="../media/image38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image" Target="../media/image28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Text Box 16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Verdana"/>
              </a:rPr>
              <a:t>Organis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13B0A-AAD7-4191-9156-B87B68EE63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304920" y="38088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Cheminement de l’échantill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7" descr="Capture3"/>
          <p:cNvPicPr/>
          <p:nvPr/>
        </p:nvPicPr>
        <p:blipFill>
          <a:blip r:embed="rId1"/>
          <a:srcRect l="0" t="16987" r="0" b="0"/>
          <a:stretch/>
        </p:blipFill>
        <p:spPr>
          <a:xfrm>
            <a:off x="228600" y="1523880"/>
            <a:ext cx="8381880" cy="37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79E82-07B3-42F2-A67C-4249EB958A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43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Organization Chart 3"/>
          <p:cNvGrpSpPr/>
          <p:nvPr/>
        </p:nvGrpSpPr>
        <p:grpSpPr>
          <a:xfrm>
            <a:off x="380880" y="1935000"/>
            <a:ext cx="6172200" cy="3773520"/>
            <a:chOff x="380880" y="1935000"/>
            <a:chExt cx="6172200" cy="3773520"/>
          </a:xfrm>
        </p:grpSpPr>
        <p:sp>
          <p:nvSpPr>
            <p:cNvPr id="205" name="AutoShape 4"/>
            <p:cNvSpPr/>
            <p:nvPr/>
          </p:nvSpPr>
          <p:spPr>
            <a:xfrm>
              <a:off x="380880" y="1935000"/>
              <a:ext cx="6172200" cy="37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6" name="_s1029"/>
            <p:cNvCxnSpPr>
              <a:stCxn id="207" idx="1"/>
              <a:endCxn id="208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09" name="_s1031"/>
            <p:cNvCxnSpPr>
              <a:stCxn id="210" idx="3"/>
              <a:endCxn id="208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11" name="_s1032"/>
            <p:cNvCxnSpPr>
              <a:stCxn id="208" idx="0"/>
              <a:endCxn id="212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13" name="_s1034"/>
            <p:cNvCxnSpPr>
              <a:stCxn id="214" idx="0"/>
              <a:endCxn id="215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16" name="_s1035"/>
            <p:cNvCxnSpPr>
              <a:stCxn id="212" idx="0"/>
              <a:endCxn id="215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15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200" spc="-1" strike="noStrike">
                  <a:solidFill>
                    <a:srgbClr val="ffffff"/>
                  </a:solidFill>
                  <a:latin typeface="Arial"/>
                </a:rPr>
                <a:t>Directeur</a:t>
              </a:r>
              <a:br>
                <a:rPr sz="2200"/>
              </a:br>
              <a:r>
                <a:rPr b="1" lang="fr-FR" sz="2200" spc="-1" strike="noStrike">
                  <a:solidFill>
                    <a:srgbClr val="ffffff"/>
                  </a:solidFill>
                  <a:latin typeface="Arial"/>
                </a:rPr>
                <a:t> laboratoir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Biologis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 respons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Responsable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 qualité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en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ICI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ICI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Line 40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42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44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5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firmière surveill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6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firmiè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47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50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Directeur d’hô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80DDF-5A41-46B4-9039-0D0776AFDE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sponsabl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xigence ISO151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responsabilité et l’autorité pour superviser la conform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apporte directement aux décid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5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j0240719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39484-17B1-4FAC-AAC7-059EFF9871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sponsabilités du responsabl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trôler le système de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ssurer la conform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voir tous les regist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uire et coordonner les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hercher les défic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nformer les décid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0DBEB-9547-443D-91EE-3B2B5B545B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lanif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approches varient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elon la situation lo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 nombreux facteurs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fluencent le point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 dé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clure tous les élément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ns le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ut être mis en oeuvr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ar éta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5" descr="MCBD07022_0000[1]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40E47-4284-4F07-B275-400F484DAA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7" descr="MCj00905430000[1]"/>
          <p:cNvPicPr/>
          <p:nvPr/>
        </p:nvPicPr>
        <p:blipFill>
          <a:blip r:embed="rId1"/>
          <a:srcRect l="45571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Gardez à l’espr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mmuniquer, soyez transpa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des échéance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fais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velopper des objectif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listes et mesur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finir des priorités,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éder par ét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5E039-C583-4AAE-87C2-F873770D85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0" descr="19_gap_analysis"/>
          <p:cNvPicPr/>
          <p:nvPr/>
        </p:nvPicPr>
        <p:blipFill>
          <a:blip r:embed="rId1"/>
          <a:stretch/>
        </p:blipFill>
        <p:spPr>
          <a:xfrm>
            <a:off x="5181480" y="2666880"/>
            <a:ext cx="3733920" cy="2880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75960" y="137160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terminer les carences en utilisant une check-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velopper une list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e tâ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inir des priorité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3240" indent="-17424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abord ce qui peut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être résolu rapid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3240" indent="-17424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terminer ce qui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ra le plus d’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duire une analyse des carences (Gap analysis)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4876920" y="213372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Analyse des carences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D72D6-7761-441B-BA77-D59BDDE49B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nalyse des car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roblèmes couramment identifié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emande d’analy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 l’échantill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Niveau de formation du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ersonnel tech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ntrôle qual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rocessus analy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nregistrement et compte-rendu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’analy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s réactifs et de l’équipement demande d’analy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5" descr="MCj03983870000[1]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7DD6C-44BD-43A6-B82B-366F1F8172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Rédaction du plan qui devrait contenir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2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e qui devrait être fa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qui sera respons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quand (calendri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ressources nécess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points de réfé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3"/>
          <p:cNvSpPr/>
          <p:nvPr/>
        </p:nvSpPr>
        <p:spPr>
          <a:xfrm>
            <a:off x="304920" y="5105520"/>
            <a:ext cx="868680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doit être disponible pour tout le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3C7CF-CDE0-4B2A-8B55-88286947E6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6" descr="MCj04325520000[1]"/>
          <p:cNvPicPr/>
          <p:nvPr/>
        </p:nvPicPr>
        <p:blipFill>
          <a:blip r:embed="rId1"/>
          <a:stretch/>
        </p:blipFill>
        <p:spPr>
          <a:xfrm>
            <a:off x="5867280" y="3886200"/>
            <a:ext cx="3124440" cy="335268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ise en oeuv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engager à term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éparer une mise en oeuvre par éta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assurer que les ressources sont disponi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er un tableau de Gan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certain que chacun connait ses responsabil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puis al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7"/>
          <p:cNvSpPr/>
          <p:nvPr/>
        </p:nvSpPr>
        <p:spPr>
          <a:xfrm>
            <a:off x="3124080" y="6156360"/>
            <a:ext cx="350532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Verdana"/>
              </a:rPr>
              <a:t>commenc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A762A-5F18-4C7D-A690-19E28F6209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 la fin de ce module les participants seront en mesure d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écrire les éléments organisationnels nécessaires à un système de gestion de la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iscuter  les rôles et les responsabilités dans un système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pliquer le processus de conception, de mise en œuvre, de maintenance et d’amélioration du système qualité au laborato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pliquer l’intérêt d’un manuel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0416F-CC84-40E5-ACC2-5C35F50639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Tableau de Gan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19_gnatt_chart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2CEF2-D447-4E2F-BF3D-EBE8B80BC1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Fournir des res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xigences financière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esoins du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sonnel supplémentai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mpétences, formation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stallations, équipement,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, ordin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5" descr="MCj01570510000[1]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2" descr="pipetting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0" descr="j0195384"/>
          <p:cNvPicPr/>
          <p:nvPr/>
        </p:nvPicPr>
        <p:blipFill>
          <a:blip r:embed="rId3"/>
          <a:stretch/>
        </p:blipFill>
        <p:spPr>
          <a:xfrm>
            <a:off x="5867280" y="4419720"/>
            <a:ext cx="179568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D0948-7974-45C9-863D-44A0911B72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16" descr="j0386161"/>
          <p:cNvPicPr/>
          <p:nvPr/>
        </p:nvPicPr>
        <p:blipFill>
          <a:blip r:embed="rId1"/>
          <a:stretch/>
        </p:blipFill>
        <p:spPr>
          <a:xfrm>
            <a:off x="6915240" y="1905120"/>
            <a:ext cx="2228760" cy="335268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de la conform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ssigner les responsabil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velopper des indicateu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tablir un système de contrô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uire des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vue de 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2" descr="MCj02120510000[1]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8BE37-5A77-418B-951F-AEB2F73140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 Inter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meeting_asia_1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93E99-10A8-4014-8DBD-8081A11AB9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"/>
          <p:cNvSpPr/>
          <p:nvPr/>
        </p:nvSpPr>
        <p:spPr>
          <a:xfrm>
            <a:off x="685800" y="457200"/>
            <a:ext cx="67057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’est ce que le manuel qualité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ocument qui décrit entièrement le système de gestion de la qualité d’une organis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pe essenti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sponsabilité de la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10" descr="manuals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576F-9879-40CE-8D3C-A7AAC3E44A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munique l’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rt de cadre pour répondre aux exigences du système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montre l’engagement de la direction dans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6FF8C-417D-446A-A234-35D58EFBC9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11" descr="MCPE07250_0000[1]"/>
          <p:cNvPicPr/>
          <p:nvPr/>
        </p:nvPicPr>
        <p:blipFill>
          <a:blip r:embed="rId1"/>
          <a:stretch/>
        </p:blipFill>
        <p:spPr>
          <a:xfrm>
            <a:off x="4419720" y="342900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Tenir à jour le 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mmunique les lignes de condu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doit être approuvé par la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requiert une 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ise j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6" descr="MCj04099450000[1]"/>
          <p:cNvPicPr/>
          <p:nvPr/>
        </p:nvPicPr>
        <p:blipFill>
          <a:blip r:embed="rId2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0AEDB-6D0E-401F-A567-5318DE5579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Une mise en oeuvre réussie requi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avoir l’engagement de la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 comprendre les bénéfices d’un système de gestion de la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engager le personnel à tous les nive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ayer d’améliorer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inuel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avoir des attente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lis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12" descr="meeting_africa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Espace réservé du pied de page 2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595CD-992E-4A36-85D0-9BED98BF78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20" descr="MCDD01419_0000[1]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8" descr="MCj02927140000[1]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5" descr="MCBS01762_0000[1]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6" descr="MCj03636380000[1]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16" name="Group 23"/>
          <p:cNvGrpSpPr/>
          <p:nvPr/>
        </p:nvGrpSpPr>
        <p:grpSpPr>
          <a:xfrm>
            <a:off x="4800600" y="2133720"/>
            <a:ext cx="4800600" cy="4390920"/>
            <a:chOff x="4800600" y="2133720"/>
            <a:chExt cx="4800600" cy="4390920"/>
          </a:xfrm>
        </p:grpSpPr>
        <p:sp>
          <p:nvSpPr>
            <p:cNvPr id="317" name="AutoShape 22"/>
            <p:cNvSpPr/>
            <p:nvPr/>
          </p:nvSpPr>
          <p:spPr>
            <a:xfrm>
              <a:off x="4800600" y="2133720"/>
              <a:ext cx="4800600" cy="43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_s195610"/>
            <p:cNvSpPr/>
            <p:nvPr/>
          </p:nvSpPr>
          <p:spPr>
            <a:xfrm>
              <a:off x="6339600" y="2752200"/>
              <a:ext cx="1722960" cy="2397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_s195611"/>
            <p:cNvSpPr/>
            <p:nvPr/>
          </p:nvSpPr>
          <p:spPr>
            <a:xfrm rot="7200000">
              <a:off x="6238080" y="3655800"/>
              <a:ext cx="2397600" cy="17233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_s195613"/>
            <p:cNvSpPr/>
            <p:nvPr/>
          </p:nvSpPr>
          <p:spPr>
            <a:xfrm rot="14400000">
              <a:off x="5767200" y="3658680"/>
              <a:ext cx="2397600" cy="17229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4" name="Picture 34" descr="bd20208_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35" descr="MCj04247500000[1]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36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37" descr="MCj02120510000[1]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38"/>
          <p:cNvSpPr/>
          <p:nvPr/>
        </p:nvSpPr>
        <p:spPr>
          <a:xfrm>
            <a:off x="152280" y="533520"/>
            <a:ext cx="3810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e l’intention à l’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F862B-3C3B-4AA3-A65C-6C7870551E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e l’intention à l’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ssigner la responsabilité de la mise en plac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llouer des ressourc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évelopper et distribuer un manuel qualité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mmencer la mise en place 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ntrôler la conformité à la politique qualité et aux exigences du système de gestion de la qualit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80604-0E05-4D3A-994B-EBFC0AA468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44" descr="bulles_def"/>
          <p:cNvPicPr/>
          <p:nvPr/>
        </p:nvPicPr>
        <p:blipFill>
          <a:blip r:embed="rId1"/>
          <a:stretch/>
        </p:blipFill>
        <p:spPr>
          <a:xfrm>
            <a:off x="2138400" y="1095480"/>
            <a:ext cx="4867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BF1C7-9259-4F01-9070-3B2F68F914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8" descr="MCj03963580000[1]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appelez v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a Qualité n’est pas une science, c’est une manière de pen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Le temps investi aujourd’hui 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ermettra d’obten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s résultats de qualité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efficacité certa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satisfaction personnelle et professionnelle 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reconnaissance de vos p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1BA85-2A30-4340-8620-4D7FDC251E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i est responsable de la qualité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6" descr="CamPic394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7" descr="small_group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8" descr="7285_lores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3" descr="meeting_asia_1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4" descr="equip_calibrate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5" descr="uniocular_mic_cdc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47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Chacun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4AC7B-A53C-438B-9316-637B1E843F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638320" y="1904760"/>
            <a:ext cx="35053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Arial"/>
              </a:rPr>
              <a:t>Commentair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65" descr="bulles_def"/>
          <p:cNvPicPr/>
          <p:nvPr/>
        </p:nvPicPr>
        <p:blipFill>
          <a:blip r:embed="rId1"/>
          <a:stretch/>
        </p:blipFill>
        <p:spPr>
          <a:xfrm>
            <a:off x="380880" y="1066680"/>
            <a:ext cx="486756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41FBC-685F-4BAF-9B2E-C15F9B714C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9"/>
          <p:cNvGrpSpPr/>
          <p:nvPr/>
        </p:nvGrpSpPr>
        <p:grpSpPr>
          <a:xfrm>
            <a:off x="3657600" y="3581280"/>
            <a:ext cx="3962520" cy="2079360"/>
            <a:chOff x="3657600" y="3581280"/>
            <a:chExt cx="3962520" cy="2079360"/>
          </a:xfrm>
        </p:grpSpPr>
        <p:sp>
          <p:nvSpPr>
            <p:cNvPr id="140" name="AutoShape 18"/>
            <p:cNvSpPr/>
            <p:nvPr/>
          </p:nvSpPr>
          <p:spPr>
            <a:xfrm>
              <a:off x="3657600" y="3581280"/>
              <a:ext cx="3962520" cy="20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1" name="_s7194"/>
            <p:cNvCxnSpPr>
              <a:stCxn id="142" idx="0"/>
              <a:endCxn id="14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4" name="_s7193"/>
            <p:cNvCxnSpPr>
              <a:stCxn id="145" idx="0"/>
              <a:endCxn id="14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6" name="_s7192"/>
            <p:cNvCxnSpPr>
              <a:stCxn id="147" idx="0"/>
              <a:endCxn id="14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ssentiel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3124080" y="1295280"/>
            <a:ext cx="5791320" cy="23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gagement pour une gestion soigneuse du systè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ne structure organisée conçue pour atteindre les objectifs de qualit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MPj04017350000[1]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FEC89-EF13-4558-AC07-59CE452A2D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Mise en oeuv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Processus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 de plan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Contrôle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et améli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22"/>
          <p:cNvSpPr/>
          <p:nvPr/>
        </p:nvSpPr>
        <p:spPr>
          <a:xfrm rot="5400000">
            <a:off x="1218600" y="2286000"/>
            <a:ext cx="1523880" cy="76212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23"/>
          <p:cNvSpPr/>
          <p:nvPr/>
        </p:nvSpPr>
        <p:spPr>
          <a:xfrm rot="10800000">
            <a:off x="4114800" y="2743200"/>
            <a:ext cx="914400" cy="99072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24"/>
          <p:cNvSpPr/>
          <p:nvPr/>
        </p:nvSpPr>
        <p:spPr>
          <a:xfrm rot="5400000">
            <a:off x="6858000" y="2514600"/>
            <a:ext cx="1981440" cy="91440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31"/>
          <p:cNvGrpSpPr/>
          <p:nvPr/>
        </p:nvGrpSpPr>
        <p:grpSpPr>
          <a:xfrm>
            <a:off x="685800" y="3505320"/>
            <a:ext cx="2590920" cy="2361240"/>
            <a:chOff x="685800" y="3505320"/>
            <a:chExt cx="2590920" cy="2361240"/>
          </a:xfrm>
        </p:grpSpPr>
        <p:sp>
          <p:nvSpPr>
            <p:cNvPr id="160" name="AutoShape 30"/>
            <p:cNvSpPr/>
            <p:nvPr/>
          </p:nvSpPr>
          <p:spPr>
            <a:xfrm>
              <a:off x="685800" y="3505320"/>
              <a:ext cx="2590920" cy="236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1" name="_s8230"/>
            <p:cNvCxnSpPr>
              <a:stCxn id="162" idx="0"/>
              <a:endCxn id="163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4" name="_s8229"/>
            <p:cNvCxnSpPr>
              <a:stCxn id="165" idx="0"/>
              <a:endCxn id="163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6" name="_s8228"/>
            <p:cNvCxnSpPr>
              <a:stCxn id="167" idx="0"/>
              <a:endCxn id="163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3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AutoShape 39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Direction, Rôles de 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1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Verdana"/>
              </a:rPr>
              <a:t>Structure</a:t>
            </a:r>
            <a:br>
              <a:rPr sz="1600"/>
            </a:br>
            <a:r>
              <a:rPr b="1" lang="fr-FR" sz="1600" spc="-1" strike="noStrike">
                <a:solidFill>
                  <a:srgbClr val="ffffff"/>
                </a:solidFill>
                <a:latin typeface="Verdana"/>
              </a:rPr>
              <a:t> organisationn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2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3"/>
          <p:cNvSpPr/>
          <p:nvPr/>
        </p:nvSpPr>
        <p:spPr>
          <a:xfrm rot="5400000">
            <a:off x="5520960" y="1946160"/>
            <a:ext cx="838080" cy="75564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44"/>
          <p:cNvSpPr/>
          <p:nvPr/>
        </p:nvSpPr>
        <p:spPr>
          <a:xfrm rot="5400000">
            <a:off x="4495680" y="4495680"/>
            <a:ext cx="1143000" cy="175248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DA635-E971-4A02-AA8A-89D9EB592C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181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ptitude à diri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exerçant un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utorité responsabl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motivant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t donnant une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influençant et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courageant l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ersonnel pour d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bonnes perform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6" descr="10031_lores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40D21-4791-435E-8BD1-6BEB942DFA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sponsabilités des dirige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ise en oeuvre et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mélioration continue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u système de gestion de la qualité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ocumenter et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mmuniquer à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out le personnel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ournir un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anuel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9" descr="a_19"/>
          <p:cNvPicPr/>
          <p:nvPr/>
        </p:nvPicPr>
        <p:blipFill>
          <a:blip r:embed="rId1"/>
          <a:stretch/>
        </p:blipFill>
        <p:spPr>
          <a:xfrm>
            <a:off x="3733920" y="2666880"/>
            <a:ext cx="502920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CB6B5-4290-4B76-AE23-1CC7C29010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4" descr="j0385407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ngagement de la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Black"/>
              </a:rPr>
              <a:t>Ministère de la San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5181480" y="1219320"/>
            <a:ext cx="3276720" cy="82548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Gestion financi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2" descr="supplier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90" name="Picture 23" descr="j0216070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1" descr="head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192" name="PubOvalCallout"/>
          <p:cNvSpPr/>
          <p:nvPr/>
        </p:nvSpPr>
        <p:spPr>
          <a:xfrm rot="16200000">
            <a:off x="4038480" y="3885840"/>
            <a:ext cx="2057400" cy="34290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unions du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12EAD-55C4-4FBB-A925-D115A2DADF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ructure Organisationnel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609480" y="1447920"/>
            <a:ext cx="777240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une structure de travail qui assure un flux suffisant dans toutes les parties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igner rôles et responsabil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velopper un organi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signer un responsable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llouer des ressources suffis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8T13:01:43Z</dcterms:modified>
  <cp:revision>132</cp:revision>
  <dc:subject/>
  <dc:title>Slide 1</dc:title>
</cp:coreProperties>
</file>